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A7053-1618-442F-802E-614156C8C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385E9-A73F-40D5-BF87-FEED828AE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8E8C3-6F1D-4048-9B13-E46A9BF0A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6322F-3DF2-4AA3-BCFA-D8F5BBA8F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17838-E0D5-47B5-90E9-7EDE31EA6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7A698-0F6E-438C-AAD7-832B65ABE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12D86-B7D4-4CEA-A557-79C5B3CDC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39E13-5101-40C8-AA06-8A80C5786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49C23-4F1C-4A01-B3B3-FD667DA5B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D813D-7675-4CA8-886F-81C6D364A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587B5-7FC5-492D-8187-3CEF9D026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1BA29-C1AC-458B-B94C-C90880C03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5F0AF-0964-468F-9288-7C0187F053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anglicansonline.org/basics/thirty-nine_articles.html" TargetMode="Externa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550 to early 1600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edience and Religiosity Confli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mission to Secular Authority Question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uther- Diet of Augsbur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lvin-Reluctantly Justified Political Resis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nox - “Blast the Trumpet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gl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izabeth takes the thr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testantism Lit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y Stuart- Queen of Sco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nish Arma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ry (Bloody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st Cala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tores Catholic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ries Philip 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ecutes 1000s Protest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luding “Book of Common Prayer” Cran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iles became Radicalized (including John Kno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testant Que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ores Protestant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9 Articles of Religion (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anglicansonline.org/basics/thirty-nine_articles.htm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71280" indent="-194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rgely based Thomas Cranmer’s Book of Pray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71280" indent="-194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eds of Discont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60080" indent="-1940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ritans demand more s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748520" indent="-1940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lain of Sabbath activ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748520" indent="-1940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pal Bull Excommunicates Elizabe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testantism L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tholic Ceremon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tholic Organiz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71280" indent="-194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gregationalists demand Presby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rries Torch Protestant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lit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s Dutch in revo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rlier Disassociated w/Sea Begg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ilip II also supporting Catholics France and Engl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584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71280" indent="-194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testant William of Orange Assassin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71280" indent="-194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nry Navarre converts back to Catholici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58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71280" indent="-194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es cousin, Mary Queen of Sc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the smoke clears- Church of England or dead/exiled (Conventicle Act 159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anish Armada</a:t>
            </a:r>
            <a:br>
              <a:rPr sz="4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God blew and they were scatte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testant England v. Catholic Sp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rgin Queen v. Unrequited? Marriage Part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a Beggars in Netherlands, Piracy at Sea (Drake) + Support of Netherlands-&gt;Arm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mada-&gt;30,000 to 50,000 men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d communications, weak leadership and a poor wi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rlier Drake delayed onset-&gt;attacked Cadi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ry Stu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nry VII Granddaugh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thol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ther Mary of Guise (French famil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ge 5 sent to France (Devote Catholi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30960" indent="-203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st married to Henry II of France’s Son (Francis II), Mary becomes Queen of Fr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24160" indent="-203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ther dies-&gt;Queen of Scotland, Husband dies-&gt; returns to Scotland 1561-&gt;remarries-&gt;has a son-&gt;Palace intrigue-Mary abdicates- one year old son-&gt;James VI-&gt;Mary escapes to Eng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otland-&gt;Protestant-&gt;John Kn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424160" indent="-203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VI Protest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pi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424160" indent="-203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 and Spain secretly conspire w/M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24160" indent="-203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fered to hand over crown to Philip II (Babington Plo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24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therine de Medici marries Henry 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 Huguenot Popul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ak Kings- Intrigue and plo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urbons and Gu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igious 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nry of Navar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litiq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nry II (Valois) 1547-155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ancis I son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ted Charles V!- kidnapped his dad traded for Henry himself!&gt; makes pals w/Philip II-&gt;the wedding?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ries Catherine de Medic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ter known for poiso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Child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82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Charles (became Charles IX, Catherine was Regent- 8 of 14 years of reign), incompet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82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Henry (became Henry III- note was also King of Poland-) 1589 stabbed to dea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82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Margueritte (married Henry of Navarre (Henry IV) St. Bartholomews Massacre!-&gt;later divorced hi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82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izabeth who married Philip II of Spain (at her wedding, Henry II jousted got hurt and died!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82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ancis (became Francis II but died at just 16) married Mary, Queen of Scots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ugueono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nch Calvini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rly Tolerance gave way to intolerance (Edict of Fountainebleau 1540), smattering of tolerance (1562- January Edic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w of Population b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/3rd of No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ten Noblewomen! Charlotte d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ourb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arries William of 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urbon family conversions-&gt;Other noble conver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562 Fighting begins- Massacre at Vassy. Guise attack on Huguenots. Protestant Churches burned, congregants kill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ak Kin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mpetence led to Intrig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ancis II dies you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rles IX killed by his mo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nry III, alienates Catholics, bungles an assassination and is himself murder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therine- Expert at Poiso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lancing Guise and Bourb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x Degrees of Philip 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urbons and Gui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came clear the House of Valois wouldn’t gain throne-&gt;next in Line-&gt;Bourbon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urbon family conversions to Protestant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nry II’s death-&gt;power vacu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572- Catherine conspires w/Guise family against Bourbons- St. Bartholomew’s Massac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588-&gt;Guise family plots w/Philip’s Spain against Henry III- Henry assassinates Duke of Gu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Philip II married into Valois family and his daughter was to marry Henry of Guise (aiming to be k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596 Henry IV (Bourbon) enters into treaty w/House of Gu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massacre"/>
          <p:cNvPicPr/>
          <p:nvPr/>
        </p:nvPicPr>
        <p:blipFill>
          <a:blip r:embed="rId1"/>
          <a:stretch/>
        </p:blipFill>
        <p:spPr>
          <a:xfrm>
            <a:off x="0" y="442800"/>
            <a:ext cx="9144000" cy="64152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St. Bartholomew’s Day Massacre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August 157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In One Week- </a:t>
            </a: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100,000</a:t>
            </a: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 French Calvinists (Huguenots) Slaughte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eep your friends close but your enemies clos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nry I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tholic tensions rise, belief Henry III not vigilant-&gt;Catholic League form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cates Catholics, amends Peace of Bealieu- provided some rights to Huguen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nry Navarre leads Protest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tholic League (Guise) supported by Spani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&gt;Henry kills Guise lea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taliation pushes Henry III to ally w/Henry Navar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ter-&gt;Henry stabbed by fervent mo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hildren-&gt;Bourbon family takes 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nry of Navarre (Henry IV)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Paris is worth a Ma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ged Religions Several Times (at least 3 times was R.C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EDICT OF NA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1598-RELIGIOUS TOLERATION- PROTESTANTS ARE ALLOWED TO LIVE IN FRANCE, no services in Par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taking throne converted Catholic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596 Treaty w/Guis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assinated 1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litiq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rm to describe moderate Catholics in Fr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litics ahead of Relig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agmatists as opposed to ideali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tting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ilip takes Thr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stere Catholic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anos (ex-Jews), Moriscos (ex-Muslim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rdinand (Uncle) has 1/2 Kingd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ds to Austrian/Spanish Habsbur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testant Reformation will under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gland- Mary has died 1558, Elizabeth Que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herlands- Calvin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ilip 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810560" cy="56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reaucr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cromana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anded Government work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gnificantly raised taxes (10% sales)-&gt;aliena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gid Catholic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scorial 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droom next to the Alta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plomacy through Marri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ing the Iberian Peninsul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ried the Princess of Portug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y Tudor (Maria Princess of Portugal had di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rsuing Elizabeth (Mary Tudor had di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ped incite French Cathol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ried Elizabeth of Valois (Catherine de’ Medici’s and Henry II daughter)- died—Philip totaled 4 wives in the en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tecting the Flanks and the Relig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successf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571 Battle of Lepanto (note: Cervantes who wrote Don Quixote injured in battl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tomans defeated -Spain-&gt;control W. M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rted Moriscos exil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less 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ted Provinces (Netherlands) Calvinists rise up and become Independent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ites Iberia (1580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"I inherited, I bought, I conquer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ing dies w/out an he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ilip (Uncle) claims thr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flation Wo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6th Centu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pulation Incre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ge influx Silver (New World) -&gt; massive inflation-&gt;Grain prices up 5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ain declares Bankruptcy several occa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prosperous area, Netherlands, gains independ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alified Jews and Muslims leave cou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78487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sperous area-  Substantial Textile Indus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vinist and Roman Catholic provi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Growing resentment of Spanish r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Cardinal Granvelle-&gt;Catholicize Country- centralize Chu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ent Margaret (sister) imposes Council of T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mpromi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igned oppose Catholic la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1566 Calvinists vandalize Catholic Chur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Philip retaliates-&gt;Duke of Alba Governor General-Council of Troubles=Council of Blood-&gt;1000s leave, many executed-&gt; William of Orange (politique?) rises (assassinated 158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a beggars (includes Englis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ilip retaliates,”Spanish Fury”@ Antwerp, 7000 d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ited Provinces-&gt;Republic (Union of Brussel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tholic and Protestant Provinces 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anish evicted (Perpetual Edic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on Brussels- divi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tholic Union of Arras (eventually 1820s becomes Belgium…note what’s happening there today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estant Union of Utrec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ependence decla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lliam of Orange assassin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izabeth Supports Dutch-&gt;troops and $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nch do too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7T17:35:48Z</dcterms:created>
  <dc:creator>Steve Balazs</dc:creator>
  <dc:description/>
  <dc:language>en-US</dc:language>
  <cp:lastModifiedBy>Local User</cp:lastModifiedBy>
  <dcterms:modified xsi:type="dcterms:W3CDTF">2012-10-15T12:54:18Z</dcterms:modified>
  <cp:revision>42</cp:revision>
  <dc:subject/>
  <dc:title>Six Degrees of Philip II</dc:title>
</cp:coreProperties>
</file>